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9.png" ContentType="image/png"/>
  <Override PartName="/ppt/media/image65.jpeg" ContentType="image/jpeg"/>
  <Override PartName="/ppt/media/image39.jpeg" ContentType="image/jpeg"/>
  <Override PartName="/ppt/media/image41.jpeg" ContentType="image/jpeg"/>
  <Override PartName="/ppt/media/image66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M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B11-8B29-45DC-B9A6-E7243E89B654}" type="slidenum">
              <a:rPr b="0" lang="sr-M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53C-5C61-421B-9FD5-A45553E4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547-23BE-45A7-B09B-44F862C5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ECD-CB0E-4656-85ED-BE2B54DA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D9B-57A2-4814-B1BB-360037B5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9DF-FA02-4188-A25F-CA900273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A01-06FD-4367-862E-1C4287A5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A40D-8B4D-4140-8472-10A563F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ECE-F737-4522-9A96-12797D2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97F2-14B3-4FA3-850E-8D21E24A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EF09-053A-4056-898F-2AAA55C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4909-1CE8-459E-91F3-2AA6B92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0112-B792-4608-A8D4-9122F765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650-AD24-4A5C-95E3-06FD3E1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285-9B9F-41FE-9BE2-080C2D2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2915-83F9-4F78-A8A2-D578CEB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2FE-8BB5-4922-9DF6-C6E09AA6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3D8E-8A3D-4B49-AAA2-AD24342E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4B1C-BB9D-47C6-B4AC-0F7BBAD0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3C4-B464-41FC-8D60-7F5AA5BE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8C3-9C42-4001-AC35-F9D2AC69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CA6-AAFD-48CB-8ED9-80438DA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00E-C5CE-4960-AE15-CCBA9CE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C81-22CA-423C-8158-4D83B19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4AE-1D5D-4D8A-8C2F-2DFE8E66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F2C-0C34-42D0-AC49-9ED6666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859F-EBDE-430C-88C5-460332EA650A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FDC0-0E52-4826-AA8C-7A017025667D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ОРАЛН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ДИНИЈЕ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330033"/>
                </a:solidFill>
                <a:latin typeface="Times New Roman"/>
              </a:rPr>
              <a:t>ПИРОЗЕ</a:t>
            </a:r>
            <a:br>
              <a:rPr sz="4000"/>
            </a:br>
            <a:r>
              <a:rPr b="1" lang="sr-Latn-CS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ПОРЕМЕЋАЈ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330033"/>
                </a:solidFill>
                <a:latin typeface="Times New Roman"/>
              </a:rPr>
              <a:t>УКУС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858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DYNIA</a:t>
            </a: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STOMAT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GLOSSOPY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0033"/>
                </a:solidFill>
                <a:latin typeface="Arial"/>
              </a:rPr>
              <a:t>СИНДРОМ ПЕКУЋИХ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51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59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пат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n. trigeminu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стему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жданих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сихоге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кс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прес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ск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ц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в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имењу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несо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амилтон-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порем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euralgija trigeminusa"/>
          <p:cNvPicPr/>
          <p:nvPr/>
        </p:nvPicPr>
        <p:blipFill>
          <a:blip r:embed="rId1"/>
          <a:srcRect l="0" t="9301" r="0" b="6262"/>
          <a:stretch/>
        </p:blipFill>
        <p:spPr>
          <a:xfrm>
            <a:off x="6553080" y="4417920"/>
            <a:ext cx="2283120" cy="2287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7" name="Picture 5" descr="Nerv-trigeminus-e1307560710402-166x200"/>
          <p:cNvPicPr/>
          <p:nvPr/>
        </p:nvPicPr>
        <p:blipFill>
          <a:blip r:embed="rId2"/>
          <a:stretch/>
        </p:blipFill>
        <p:spPr>
          <a:xfrm>
            <a:off x="6019920" y="1600200"/>
            <a:ext cx="2404800" cy="2666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60280"/>
            <a:ext cx="807732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КЛИНИЧК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ЛИКА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ФЕРЕНЦИЈАЛН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личит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ис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ен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моћ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них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к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линичк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скв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чног покрив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роз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ђ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лце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црвенил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то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ертроф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епител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сп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тез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ло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какв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зн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убјектив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ремећај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уролошк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tempormandibulari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glossopharynge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алг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n. trigem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gangliona sphenopalatinus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apil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Neuritis tra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burning_mouth_080211_mn"/>
          <p:cNvPicPr/>
          <p:nvPr/>
        </p:nvPicPr>
        <p:blipFill>
          <a:blip r:embed="rId1"/>
          <a:stretch/>
        </p:blipFill>
        <p:spPr>
          <a:xfrm>
            <a:off x="5029200" y="4095720"/>
            <a:ext cx="3276720" cy="2457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48320" y="765000"/>
            <a:ext cx="40384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897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локалн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приклад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ом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брињав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риоз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ч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штр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виц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лањ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ал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к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тетс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док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обр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burning-tongue"/>
          <p:cNvPicPr/>
          <p:nvPr/>
        </p:nvPicPr>
        <p:blipFill>
          <a:blip r:embed="rId1"/>
          <a:stretch/>
        </p:blipFill>
        <p:spPr>
          <a:xfrm>
            <a:off x="4815000" y="1905120"/>
            <a:ext cx="4267080" cy="304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685800"/>
            <a:ext cx="4800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еловањ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пшт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фак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пшт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радњ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ари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личи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пецијалн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хе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уматол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јата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јат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ekuca usta"/>
          <p:cNvPicPr/>
          <p:nvPr/>
        </p:nvPicPr>
        <p:blipFill>
          <a:blip r:embed="rId1"/>
          <a:stretch/>
        </p:blipFill>
        <p:spPr>
          <a:xfrm>
            <a:off x="2457360" y="3886200"/>
            <a:ext cx="2648160" cy="2790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8" name="Picture 5" descr="lem0211fireeater"/>
          <p:cNvPicPr/>
          <p:nvPr/>
        </p:nvPicPr>
        <p:blipFill>
          <a:blip r:embed="rId2"/>
          <a:srcRect l="0" t="12356" r="0" b="20225"/>
          <a:stretch/>
        </p:blipFill>
        <p:spPr>
          <a:xfrm>
            <a:off x="5826240" y="1676520"/>
            <a:ext cx="2860560" cy="2519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59" name="Picture 6" descr="rheu_arthritis"/>
          <p:cNvPicPr/>
          <p:nvPr/>
        </p:nvPicPr>
        <p:blipFill>
          <a:blip r:embed="rId3"/>
          <a:stretch/>
        </p:blipFill>
        <p:spPr>
          <a:xfrm>
            <a:off x="5826240" y="4419720"/>
            <a:ext cx="2828880" cy="2257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64832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Симптоматска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к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стетичк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сеп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тимикотич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дстригент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у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изик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то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имулац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а пљува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ет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сх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ештачка 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асер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ал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pekuca usta"/>
          <p:cNvPicPr/>
          <p:nvPr/>
        </p:nvPicPr>
        <p:blipFill>
          <a:blip r:embed="rId1"/>
          <a:stretch/>
        </p:blipFill>
        <p:spPr>
          <a:xfrm>
            <a:off x="4229280" y="4513320"/>
            <a:ext cx="213336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3" name="Picture 7" descr="result (14)"/>
          <p:cNvPicPr/>
          <p:nvPr/>
        </p:nvPicPr>
        <p:blipFill>
          <a:blip r:embed="rId2"/>
          <a:stretch/>
        </p:blipFill>
        <p:spPr>
          <a:xfrm>
            <a:off x="5486400" y="1676520"/>
            <a:ext cx="3200400" cy="2260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4" name="Picture 8" descr="vodice-za-ispiranje-usta-ilustracija-midi"/>
          <p:cNvPicPr/>
          <p:nvPr/>
        </p:nvPicPr>
        <p:blipFill>
          <a:blip r:embed="rId3"/>
          <a:stretch/>
        </p:blipFill>
        <p:spPr>
          <a:xfrm>
            <a:off x="6705720" y="4513320"/>
            <a:ext cx="2209680" cy="2133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65" name="Picture 6" descr="Pomarandze"/>
          <p:cNvPicPr/>
          <p:nvPr/>
        </p:nvPicPr>
        <p:blipFill>
          <a:blip r:embed="rId4"/>
          <a:stretch/>
        </p:blipFill>
        <p:spPr>
          <a:xfrm>
            <a:off x="1994040" y="5557680"/>
            <a:ext cx="1828800" cy="1084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765000"/>
            <a:ext cx="7238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4113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цептор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ефлекс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њају    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сл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а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мет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ређ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ирис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бел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црног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кромп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укус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јабуке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i="1" lang="sr-Latn-C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др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ukusi5"/>
          <p:cNvPicPr/>
          <p:nvPr/>
        </p:nvPicPr>
        <p:blipFill>
          <a:blip r:embed="rId1"/>
          <a:stretch/>
        </p:blipFill>
        <p:spPr>
          <a:xfrm>
            <a:off x="5565600" y="1887480"/>
            <a:ext cx="31305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3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3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3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14240" y="685800"/>
            <a:ext cx="61722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02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х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валите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ч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ранам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сла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гор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ен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ге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те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ињекци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измут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ај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металног</a:t>
            </a:r>
            <a:r>
              <a:rPr b="1" i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ukusi"/>
          <p:cNvPicPr/>
          <p:nvPr/>
        </p:nvPicPr>
        <p:blipFill>
          <a:blip r:embed="rId1"/>
          <a:stretch/>
        </p:blipFill>
        <p:spPr>
          <a:xfrm>
            <a:off x="5867280" y="4724280"/>
            <a:ext cx="2838600" cy="190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5562720" y="3048120"/>
            <a:ext cx="35812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ећа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0000"/>
                </a:solidFill>
                <a:latin typeface="Arial"/>
              </a:rPr>
              <a:t>A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ukusi"/>
          <p:cNvPicPr/>
          <p:nvPr/>
        </p:nvPicPr>
        <p:blipFill>
          <a:blip r:embed="rId2"/>
          <a:stretch/>
        </p:blipFill>
        <p:spPr>
          <a:xfrm>
            <a:off x="5819760" y="1600200"/>
            <a:ext cx="3019320" cy="13716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720" y="765000"/>
            <a:ext cx="44020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Ageusi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потпу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о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р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бласт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хипокампусног г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и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tract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solitarius-a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 пон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лимичн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убитак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в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лези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a 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Otitis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- Herpes zoster oticus</a:t>
            </a:r>
            <a:r>
              <a:rPr b="1" i="1" lang="sr-Latn-CS" sz="16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617220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ом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омплек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smell-and-taste-disorders"/>
          <p:cNvPicPr/>
          <p:nvPr/>
        </p:nvPicPr>
        <p:blipFill>
          <a:blip r:embed="rId1"/>
          <a:stretch/>
        </p:blipFill>
        <p:spPr>
          <a:xfrm>
            <a:off x="4708440" y="1643040"/>
            <a:ext cx="3905280" cy="2476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78" name="Picture 7" descr="ukusi"/>
          <p:cNvPicPr/>
          <p:nvPr/>
        </p:nvPicPr>
        <p:blipFill>
          <a:blip r:embed="rId2"/>
          <a:stretch/>
        </p:blipFill>
        <p:spPr>
          <a:xfrm>
            <a:off x="5327640" y="4343400"/>
            <a:ext cx="2666880" cy="22478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09680" y="685800"/>
            <a:ext cx="64771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РЕМЕЋАЈ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КУС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609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Hypo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смањен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х пу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об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мање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ири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лос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Dysge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(осећај парауку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сећај љут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ла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ор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ез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тварн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ку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в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рова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ешк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ет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галв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уростен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можда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теросклер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Ов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ремаћаји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стај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оследиц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ражењ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рaсимпатичк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лака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sr-Latn-CS" sz="1800" spc="-1" strike="noStrike">
                <a:solidFill>
                  <a:srgbClr val="330033"/>
                </a:solidFill>
                <a:latin typeface="Arial"/>
              </a:rPr>
              <a:t>chorde tymp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wm-Smell and Taste"/>
          <p:cNvPicPr/>
          <p:nvPr/>
        </p:nvPicPr>
        <p:blipFill>
          <a:blip r:embed="rId1"/>
          <a:stretch/>
        </p:blipFill>
        <p:spPr>
          <a:xfrm>
            <a:off x="6172200" y="4619520"/>
            <a:ext cx="2743200" cy="20574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2" name="Picture 5" descr="dah-i-zubi-450"/>
          <p:cNvPicPr/>
          <p:nvPr/>
        </p:nvPicPr>
        <p:blipFill>
          <a:blip r:embed="rId2"/>
          <a:stretch/>
        </p:blipFill>
        <p:spPr>
          <a:xfrm>
            <a:off x="6781680" y="2666880"/>
            <a:ext cx="2133720" cy="1735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83" name="Picture 6" descr="smoking"/>
          <p:cNvPicPr/>
          <p:nvPr/>
        </p:nvPicPr>
        <p:blipFill>
          <a:blip r:embed="rId3"/>
          <a:stretch/>
        </p:blipFill>
        <p:spPr>
          <a:xfrm>
            <a:off x="4648320" y="1676520"/>
            <a:ext cx="2743200" cy="1471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37335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ЕРГИЈСК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800" y="836280"/>
            <a:ext cx="45720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ПИДЕМ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чешћ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ављ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; 16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: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ист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оматолошко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н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6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-  48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русалим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3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ђ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400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олесни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111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70,7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 жена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46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29,3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%)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 -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20 –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се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 -   54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occa-urente"/>
          <p:cNvPicPr/>
          <p:nvPr/>
        </p:nvPicPr>
        <p:blipFill>
          <a:blip r:embed="rId1"/>
          <a:stretch/>
        </p:blipFill>
        <p:spPr>
          <a:xfrm>
            <a:off x="5562720" y="4343400"/>
            <a:ext cx="2895480" cy="19638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072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лергијске реакције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 неочекиване клиничке манифестације, које настају услед измењеног реаговања имунокомпатибилних ћелија (макрофаге, моноцити, лимфоцити, базофили и мастоцити) против страних материја (ткива, бактерија, вируса и др.)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3580920"/>
            <a:ext cx="8062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ензибилизација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е презентацијом антигене материје од стране антиген-презентирајуцих ћелија (макрофаге и лимфоци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ворена антитела настају на неке сопствене материје, чиме се објашњавај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утоимуна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5562720"/>
            <a:ext cx="7927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сеудоалерг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интолеранција настаје фармаколошким својствима унетих супстан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9135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су супстанце егзогеног или ендогеног порекла које могу да изазову имуни од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ХАПТ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ју само антигеност, али не индукују стварање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986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РИРОД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еини, липиди, нуклеинске киселине, ткив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ШТАЧК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етски полипептид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њуговани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http://www.alfamedic.rs/images/alergologija/alergologija1.jpg"/>
          <p:cNvPicPr/>
          <p:nvPr/>
        </p:nvPicPr>
        <p:blipFill>
          <a:blip r:embed="rId1"/>
          <a:stretch/>
        </p:blipFill>
        <p:spPr>
          <a:xfrm>
            <a:off x="3886200" y="3581280"/>
            <a:ext cx="4952880" cy="2992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утолог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истог орг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л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сено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јединке друг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нгенич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 генетички ис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Хетерофилни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једнички за различите 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vaseljenska.com/wp-content/uploads/2012/09/hiv-sida-aids.jpg"/>
          <p:cNvPicPr/>
          <p:nvPr/>
        </p:nvPicPr>
        <p:blipFill>
          <a:blip r:embed="rId1"/>
          <a:stretch/>
        </p:blipFill>
        <p:spPr>
          <a:xfrm>
            <a:off x="4038480" y="4025880"/>
            <a:ext cx="4840560" cy="2594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http://www.nordvik.rs/wp-content/uploads/2012/12/alergije1.jpg"/>
          <p:cNvPicPr/>
          <p:nvPr/>
        </p:nvPicPr>
        <p:blipFill>
          <a:blip r:embed="rId2"/>
          <a:stretch/>
        </p:blipFill>
        <p:spPr>
          <a:xfrm>
            <a:off x="380880" y="403380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8580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ОДЕЛА АНТИГЕНА ПРЕМА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ГЕНЕТСКОЈ РАЗЛИЦ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786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и се налазе на кратком краку 6 хромоз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лекс гена има више ло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куси HLA су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2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4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8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са 12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LA-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са 10 ал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: HLA-A, HLA-B и HLA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 класе II: HLA-D и HLA-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1828800"/>
            <a:ext cx="56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 HLA – Human Leucocyte antigen ti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63440" y="-2865600"/>
            <a:ext cx="726768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http://www.medicaljournals.se/acta/content/files/web/3320-web-images/3320fig3_fmt.jpeg"/>
          <p:cNvPicPr/>
          <p:nvPr/>
        </p:nvPicPr>
        <p:blipFill>
          <a:blip r:embed="rId1"/>
          <a:stretch/>
        </p:blipFill>
        <p:spPr>
          <a:xfrm>
            <a:off x="5429160" y="5019840"/>
            <a:ext cx="371484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НТИТЕЛА - ИМУНОГЛОБУЛИН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2072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Г (IgG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% од свих Иг, везује се за Фц- фраг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тофилан је и има 4 под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М (IgM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А (Иг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торни имуноглобул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силац је локалног имунит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а две субкла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муноглобулин Е (IgE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гинско антител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ује се за Фц-рецепт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зофилних гранулоци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т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оноклонкса 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static.framar.bg/snimki/zabolyavaniya/imunodeficit-s-preobladavasht-defekt-na-antitel.-neutochnen.jpg"/>
          <p:cNvPicPr/>
          <p:nvPr/>
        </p:nvPicPr>
        <p:blipFill>
          <a:blip r:embed="rId1"/>
          <a:stretch/>
        </p:blipFill>
        <p:spPr>
          <a:xfrm>
            <a:off x="4978440" y="2743200"/>
            <a:ext cx="3984480" cy="368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ИМУНОЛОШКЕ РЕАКЦИЈ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07920"/>
            <a:ext cx="8066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ни тип хиперсензиб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афилактички 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лергијска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уртика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оленска грозница и 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</a:t>
            </a:r>
            <a:r>
              <a:rPr b="1" i="1" lang="en-GB" sz="2000" spc="-1" strike="noStrike">
                <a:solidFill>
                  <a:srgbClr val="002060"/>
                </a:solidFill>
                <a:latin typeface="Arial"/>
              </a:rPr>
              <a:t>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олитичка 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аутоимун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ип III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тусова 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09480" y="465300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Касни тип преосетљ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ју после 24 и више часова. У овим реакцијама учествују Т-лимфоцити за чију се површину везују антиг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осетљивос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ктериј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ус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азит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контакт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http://home.allergicchild.com/wp-content/uploads/2012/07/allergy1.jpg"/>
          <p:cNvPicPr/>
          <p:nvPr/>
        </p:nvPicPr>
        <p:blipFill>
          <a:blip r:embed="rId1"/>
          <a:stretch/>
        </p:blipFill>
        <p:spPr>
          <a:xfrm>
            <a:off x="5886360" y="175248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ЛИНИЧКЕ МАНИФЕСТАЦИЈЕ 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alle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anthema fix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dema angioneuroti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omatitis conta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гзогени (бактерије, вируси, храна,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догени (трансформација аутогеног материј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ц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нантем оралне слузокоже, едем оралне слузокоже (јавља се импресија зуба), ерозије и улцерације оралне слузокоже, ретко нек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имптом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ечење, жарење, бол, задах из уста, отежана исхрана - дехидрат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st allergica ab"/>
          <p:cNvPicPr/>
          <p:nvPr/>
        </p:nvPicPr>
        <p:blipFill>
          <a:blip r:embed="rId1"/>
          <a:srcRect l="5204" t="9561" r="10888" b="0"/>
          <a:stretch/>
        </p:blipFill>
        <p:spPr>
          <a:xfrm>
            <a:off x="5364000" y="4870440"/>
            <a:ext cx="2451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ALLERGIC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ythema exudativum multifor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mphigus vulg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chen pl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танак узимањ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гиц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://1.bp.blogspot.com/-m_gqWV53k1k/Tk-y0aS1ACI/AAAAAAAACxk/z9C6EI1g_mg/s640/Allergic%2Bstomatitis%2Bcaused%2Bby%2Bacrylic%2Bresin.png"/>
          <p:cNvPicPr/>
          <p:nvPr/>
        </p:nvPicPr>
        <p:blipFill>
          <a:blip r:embed="rId1"/>
          <a:stretch/>
        </p:blipFill>
        <p:spPr>
          <a:xfrm>
            <a:off x="4876920" y="3924360"/>
            <a:ext cx="4047840" cy="2781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dc150.4shared.com/doc/27MNDEMH/preview_html_26665746.gif"/>
          <p:cNvPicPr/>
          <p:nvPr/>
        </p:nvPicPr>
        <p:blipFill>
          <a:blip r:embed="rId2"/>
          <a:stretch/>
        </p:blipFill>
        <p:spPr>
          <a:xfrm>
            <a:off x="5486400" y="1563840"/>
            <a:ext cx="3432240" cy="2103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нтиг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екови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сулфопрепара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биотици, аспи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хра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конзерванси, салици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непцу и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 енан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пертрофија језичног покри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nanthema fixum"/>
          <p:cNvPicPr/>
          <p:nvPr/>
        </p:nvPicPr>
        <p:blipFill>
          <a:blip r:embed="rId1"/>
          <a:srcRect l="13624" t="10147" r="23114" b="4348"/>
          <a:stretch/>
        </p:blipFill>
        <p:spPr>
          <a:xfrm>
            <a:off x="6300720" y="4076640"/>
            <a:ext cx="2664000" cy="2419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19" name="Picture 6" descr="alergija na eugenol"/>
          <p:cNvPicPr/>
          <p:nvPr/>
        </p:nvPicPr>
        <p:blipFill>
          <a:blip r:embed="rId2"/>
          <a:srcRect l="4195" t="0" r="0" b="0"/>
          <a:stretch/>
        </p:blipFill>
        <p:spPr>
          <a:xfrm>
            <a:off x="6300720" y="1730520"/>
            <a:ext cx="2664000" cy="215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836280"/>
            <a:ext cx="7086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ОДЕЛА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екундар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атећ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пшти</a:t>
            </a:r>
            <a:r>
              <a:rPr b="1" lang="sr-Latn-C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2. Прав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  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есенцијалн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диније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и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burnx2"/>
          <p:cNvPicPr/>
          <p:nvPr/>
        </p:nvPicPr>
        <p:blipFill>
          <a:blip r:embed="rId1"/>
          <a:srcRect l="0" t="0" r="0" b="22509"/>
          <a:stretch/>
        </p:blipFill>
        <p:spPr>
          <a:xfrm>
            <a:off x="762120" y="4987800"/>
            <a:ext cx="5181480" cy="1535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rymouth"/>
          <p:cNvPicPr/>
          <p:nvPr/>
        </p:nvPicPr>
        <p:blipFill>
          <a:blip r:embed="rId2"/>
          <a:stretch/>
        </p:blipFill>
        <p:spPr>
          <a:xfrm>
            <a:off x="6781680" y="4443480"/>
            <a:ext cx="2200320" cy="19936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3" name="Picture 8" descr="images"/>
          <p:cNvPicPr/>
          <p:nvPr/>
        </p:nvPicPr>
        <p:blipFill>
          <a:blip r:embed="rId3"/>
          <a:stretch/>
        </p:blipFill>
        <p:spPr>
          <a:xfrm>
            <a:off x="6781680" y="2190600"/>
            <a:ext cx="2119320" cy="16671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ENANTHEMA FIX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кључењ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гијенско-дијететски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http://sideeffectsz.com/wp-content/uploads/2013/02/bactrim-5.jpg"/>
          <p:cNvPicPr/>
          <p:nvPr/>
        </p:nvPicPr>
        <p:blipFill>
          <a:blip r:embed="rId1"/>
          <a:stretch/>
        </p:blipFill>
        <p:spPr>
          <a:xfrm>
            <a:off x="5486400" y="3733920"/>
            <a:ext cx="3105000" cy="2666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www.steadyhealth.com/109076/Image/antibiotics_pills.jpg"/>
          <p:cNvPicPr/>
          <p:nvPr/>
        </p:nvPicPr>
        <p:blipFill>
          <a:blip r:embed="rId2"/>
          <a:stretch/>
        </p:blipFill>
        <p:spPr>
          <a:xfrm>
            <a:off x="914400" y="3733920"/>
            <a:ext cx="3532320" cy="264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3280" y="167112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Наслед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хибитор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лестер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утозом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минант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ечен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форма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г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есте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моционал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е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рал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омене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пц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језик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отис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43000" y="10666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gE, Ig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gioedem"/>
          <p:cNvPicPr/>
          <p:nvPr/>
        </p:nvPicPr>
        <p:blipFill>
          <a:blip r:embed="rId1"/>
          <a:stretch/>
        </p:blipFill>
        <p:spPr>
          <a:xfrm>
            <a:off x="7308720" y="2895480"/>
            <a:ext cx="1589040" cy="2159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28" name="Picture 7" descr="angioneuroticni edem"/>
          <p:cNvPicPr/>
          <p:nvPr/>
        </p:nvPicPr>
        <p:blipFill>
          <a:blip r:embed="rId2"/>
          <a:srcRect l="0" t="7705" r="0" b="9824"/>
          <a:stretch/>
        </p:blipFill>
        <p:spPr>
          <a:xfrm>
            <a:off x="6875640" y="1179360"/>
            <a:ext cx="2022120" cy="158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EDEMA ANGIONEUROTICUM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ируршки емфиз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granuloma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kersson-Rosenthal syndrom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03280" y="981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ергијска реакција раног типа (IgE, Ig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http://t0.gstatic.com/images?q=tbn:ANd9GcRueSXzEX6y0XuA1a_ohjLR9Q2Xf7J3qxcqHclcOQ0TpgiIOV6E"/>
          <p:cNvPicPr/>
          <p:nvPr/>
        </p:nvPicPr>
        <p:blipFill>
          <a:blip r:embed="rId1"/>
          <a:stretch/>
        </p:blipFill>
        <p:spPr>
          <a:xfrm>
            <a:off x="5978520" y="4564080"/>
            <a:ext cx="2978280" cy="220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http://t0.gstatic.com/images?q=tbn:ANd9GcQpWrWZeD-lkB38PEctyzBCzBcyddi6Dr16uObLwew5EnLjO8mD"/>
          <p:cNvPicPr/>
          <p:nvPr/>
        </p:nvPicPr>
        <p:blipFill>
          <a:blip r:embed="rId2"/>
          <a:stretch/>
        </p:blipFill>
        <p:spPr>
          <a:xfrm>
            <a:off x="5978520" y="2265480"/>
            <a:ext cx="29782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242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Промене на усн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нан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 и затегнутост у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Оралне про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итем оралне слузок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зик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ро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1052640"/>
            <a:ext cx="295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heilitis aller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ergija na akr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3708360" y="1125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468360" y="213372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http://img.medscape.com/pi/emed/ckb/dermatology/1048885-1076589-1530tn.jpg"/>
          <p:cNvPicPr/>
          <p:nvPr/>
        </p:nvPicPr>
        <p:blipFill>
          <a:blip r:embed="rId1"/>
          <a:stretch/>
        </p:blipFill>
        <p:spPr>
          <a:xfrm>
            <a:off x="5257800" y="4336920"/>
            <a:ext cx="3124080" cy="196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http://img.medscape.com/pi/emed/ckb/dermatology/1048885-1076589-1527tn.jpg"/>
          <p:cNvPicPr/>
          <p:nvPr/>
        </p:nvPicPr>
        <p:blipFill>
          <a:blip r:embed="rId2"/>
          <a:stretch/>
        </p:blipFill>
        <p:spPr>
          <a:xfrm>
            <a:off x="5257800" y="2009880"/>
            <a:ext cx="3087720" cy="2114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STOMATITIS CONTACT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87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уматски ефекат  од про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емијс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мичка оштећ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alergija na akrilat"/>
          <p:cNvPicPr/>
          <p:nvPr/>
        </p:nvPicPr>
        <p:blipFill>
          <a:blip r:embed="rId1"/>
          <a:srcRect l="0" t="7165" r="0" b="0"/>
          <a:stretch/>
        </p:blipFill>
        <p:spPr>
          <a:xfrm>
            <a:off x="4876920" y="2992320"/>
            <a:ext cx="3362040" cy="3005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Testovi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n v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ба уб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а скарификације 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ratch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usnitz-Kustn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ок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http://dermnetnz.org/procedures/img/ptest1-s.jpg"/>
          <p:cNvPicPr/>
          <p:nvPr/>
        </p:nvPicPr>
        <p:blipFill>
          <a:blip r:embed="rId1"/>
          <a:stretch/>
        </p:blipFill>
        <p:spPr>
          <a:xfrm>
            <a:off x="5410080" y="1636560"/>
            <a:ext cx="2973600" cy="2230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http://www.laserdermatologynyc.com/images/text/skin-allergy/patch-testing.jpg"/>
          <p:cNvPicPr/>
          <p:nvPr/>
        </p:nvPicPr>
        <p:blipFill>
          <a:blip r:embed="rId2"/>
          <a:stretch/>
        </p:blipFill>
        <p:spPr>
          <a:xfrm>
            <a:off x="5410080" y="415296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8534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ДИЈАГНОЗ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4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стов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 v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ципитацијс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лектрофор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дегранулације базофила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lly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 лимфоцитне трансфо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стови за одређивање хистам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embrn.eu/typo3temp/pics/2d4f24678f.png"/>
          <p:cNvPicPr/>
          <p:nvPr/>
        </p:nvPicPr>
        <p:blipFill>
          <a:blip r:embed="rId1"/>
          <a:stretch/>
        </p:blipFill>
        <p:spPr>
          <a:xfrm>
            <a:off x="5334120" y="2133720"/>
            <a:ext cx="3155760" cy="4019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ТЕРАПИЈА АЛЕРГИЈСКИХ РЕАКЦИЈ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525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лањање узр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патикомиметици - адрена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ихистами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https://encrypted-tbn3.gstatic.com/images?q=tbn:ANd9GcRFHFGpkwAUFi0RtsGp_2sDitqcOubyRmhwdwR3MSMu2M6vibCLdA"/>
          <p:cNvPicPr/>
          <p:nvPr/>
        </p:nvPicPr>
        <p:blipFill>
          <a:blip r:embed="rId1"/>
          <a:stretch/>
        </p:blipFill>
        <p:spPr>
          <a:xfrm>
            <a:off x="5791320" y="3962520"/>
            <a:ext cx="2381040" cy="2381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3.imimg.com/data3/NX/PS/MY-633643/anti-allergic-drug-250x250.png"/>
          <p:cNvPicPr/>
          <p:nvPr/>
        </p:nvPicPr>
        <p:blipFill>
          <a:blip r:embed="rId2"/>
          <a:stretch/>
        </p:blipFill>
        <p:spPr>
          <a:xfrm>
            <a:off x="5791320" y="106668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556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ЛОКАЛН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звој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омалиј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Lingua plic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атећ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н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ск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фи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уролошк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Glossitis rombica me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развој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он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п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ingva plicata 1"/>
          <p:cNvPicPr/>
          <p:nvPr/>
        </p:nvPicPr>
        <p:blipFill>
          <a:blip r:embed="rId1"/>
          <a:stretch/>
        </p:blipFill>
        <p:spPr>
          <a:xfrm>
            <a:off x="6819840" y="1708200"/>
            <a:ext cx="1897200" cy="16826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7" name="Picture 5" descr="rombica"/>
          <p:cNvPicPr/>
          <p:nvPr/>
        </p:nvPicPr>
        <p:blipFill>
          <a:blip r:embed="rId2"/>
          <a:srcRect l="0" t="0" r="0" b="22441"/>
          <a:stretch/>
        </p:blipFill>
        <p:spPr>
          <a:xfrm>
            <a:off x="2133720" y="5575320"/>
            <a:ext cx="1873080" cy="113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8" name="Picture 6" descr="rombica 2"/>
          <p:cNvPicPr/>
          <p:nvPr/>
        </p:nvPicPr>
        <p:blipFill>
          <a:blip r:embed="rId3"/>
          <a:srcRect l="0" t="11557" r="0" b="0"/>
          <a:stretch/>
        </p:blipFill>
        <p:spPr>
          <a:xfrm>
            <a:off x="4386240" y="5575320"/>
            <a:ext cx="1960560" cy="11095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19" name="Picture 7" descr="lingva plicata 2"/>
          <p:cNvPicPr/>
          <p:nvPr/>
        </p:nvPicPr>
        <p:blipFill>
          <a:blip r:embed="rId4"/>
          <a:stretch/>
        </p:blipFill>
        <p:spPr>
          <a:xfrm>
            <a:off x="6819840" y="3487680"/>
            <a:ext cx="1897200" cy="1617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0755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990033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језичном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крива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зич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кривач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ч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ч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чурк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ста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есквамира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акте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emija 1"/>
          <p:cNvPicPr/>
          <p:nvPr/>
        </p:nvPicPr>
        <p:blipFill>
          <a:blip r:embed="rId1"/>
          <a:stretch/>
        </p:blipFill>
        <p:spPr>
          <a:xfrm>
            <a:off x="6622920" y="1749600"/>
            <a:ext cx="2063880" cy="20732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3" name="Picture 5" descr="hipertrfija"/>
          <p:cNvPicPr/>
          <p:nvPr/>
        </p:nvPicPr>
        <p:blipFill>
          <a:blip r:embed="rId2"/>
          <a:stretch/>
        </p:blipFill>
        <p:spPr>
          <a:xfrm>
            <a:off x="1332000" y="4365720"/>
            <a:ext cx="2592360" cy="21333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4" name="Picture 6" descr="filiformne-papile-izgledaju-poput-kratkih-niti-i-rasprostranjene-su-po-čitavom-jeziku-a-gljivolike-fungiformne-papile-nalaze-se-na-vršku-jezika"/>
          <p:cNvPicPr/>
          <p:nvPr/>
        </p:nvPicPr>
        <p:blipFill>
          <a:blip r:embed="rId3"/>
          <a:stretch/>
        </p:blipFill>
        <p:spPr>
          <a:xfrm>
            <a:off x="4952880" y="4365720"/>
            <a:ext cx="2895840" cy="2133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80773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9039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перхром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галобласти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рнициоз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ак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тами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руп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цироз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јет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антибиотиц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ртикостер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аразитар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гестив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ндокри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оремећај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надбубреж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лезд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ламер</a:t>
            </a:r>
            <a:r>
              <a:rPr b="1" lang="en-GB" sz="20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инсонов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зрач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рапиј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дел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глав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в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nemija"/>
          <p:cNvPicPr/>
          <p:nvPr/>
        </p:nvPicPr>
        <p:blipFill>
          <a:blip r:embed="rId1"/>
          <a:stretch/>
        </p:blipFill>
        <p:spPr>
          <a:xfrm>
            <a:off x="6567480" y="1676520"/>
            <a:ext cx="2471760" cy="20984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28" name="Picture 5" descr="sideropenicna anemija 2"/>
          <p:cNvPicPr/>
          <p:nvPr/>
        </p:nvPicPr>
        <p:blipFill>
          <a:blip r:embed="rId2"/>
          <a:srcRect l="11240" t="0" r="0" b="0"/>
          <a:stretch/>
        </p:blipFill>
        <p:spPr>
          <a:xfrm>
            <a:off x="6567480" y="4495680"/>
            <a:ext cx="2471760" cy="2170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29" name="Picture 6" descr="atrofija pokrivaca"/>
          <p:cNvPicPr/>
          <p:nvPr/>
        </p:nvPicPr>
        <p:blipFill>
          <a:blip r:embed="rId3"/>
          <a:srcRect l="0" t="21334" r="0" b="7677"/>
          <a:stretch/>
        </p:blipFill>
        <p:spPr>
          <a:xfrm>
            <a:off x="4191120" y="5562720"/>
            <a:ext cx="1981080" cy="11030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СЕКУНДАР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br>
              <a:rPr sz="3200"/>
            </a:b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ПШТ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ФАКТОР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ME" sz="2400" spc="-1" strike="noStrike">
                <a:solidFill>
                  <a:srgbClr val="ff0000"/>
                </a:solidFill>
                <a:latin typeface="Arial"/>
              </a:rPr>
              <a:t>б .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ипертрофиј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језичног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кр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фебри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нзумир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шаст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ош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хигиј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мање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уче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љувачк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(</a:t>
            </a:r>
            <a:r>
              <a:rPr b="1" lang="sr-ME" sz="2000" spc="-1" strike="noStrike">
                <a:solidFill>
                  <a:srgbClr val="330033"/>
                </a:solidFill>
                <a:latin typeface="Arial"/>
              </a:rPr>
              <a:t>кс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ростоми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сањ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екомерно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уш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бољењ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лу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контролис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ија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анд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број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hipertrofija 2"/>
          <p:cNvPicPr/>
          <p:nvPr/>
        </p:nvPicPr>
        <p:blipFill>
          <a:blip r:embed="rId1"/>
          <a:stretch/>
        </p:blipFill>
        <p:spPr>
          <a:xfrm>
            <a:off x="6602400" y="1730520"/>
            <a:ext cx="2389320" cy="230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3" name="Picture 5" descr="hipertrofija 1"/>
          <p:cNvPicPr/>
          <p:nvPr/>
        </p:nvPicPr>
        <p:blipFill>
          <a:blip r:embed="rId2"/>
          <a:stretch/>
        </p:blipFill>
        <p:spPr>
          <a:xfrm>
            <a:off x="6602400" y="4424400"/>
            <a:ext cx="2389320" cy="21477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134" name="Picture 6" descr="oblozen jezik1"/>
          <p:cNvPicPr/>
          <p:nvPr/>
        </p:nvPicPr>
        <p:blipFill>
          <a:blip r:embed="rId3"/>
          <a:srcRect l="23570" t="26767" r="27272" b="27351"/>
          <a:stretch/>
        </p:blipFill>
        <p:spPr>
          <a:xfrm>
            <a:off x="3730680" y="4888080"/>
            <a:ext cx="2517840" cy="176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639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рохормонал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бал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о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жен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климакс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ј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менопауз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ичк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моционалном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стабилношћ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клопу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“ендокриног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синдром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сихореактив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ег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лузокоже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тарост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недостатк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тријад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оралних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импто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пекућ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сува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алтерирани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urning mouth syndrome"/>
          <p:cNvPicPr/>
          <p:nvPr/>
        </p:nvPicPr>
        <p:blipFill>
          <a:blip r:embed="rId1"/>
          <a:stretch/>
        </p:blipFill>
        <p:spPr>
          <a:xfrm>
            <a:off x="152280" y="4495680"/>
            <a:ext cx="2476800" cy="1847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5" descr="dry_tongue_mouth"/>
          <p:cNvPicPr/>
          <p:nvPr/>
        </p:nvPicPr>
        <p:blipFill>
          <a:blip r:embed="rId2"/>
          <a:stretch/>
        </p:blipFill>
        <p:spPr>
          <a:xfrm>
            <a:off x="6105600" y="3809880"/>
            <a:ext cx="2743200" cy="26877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4563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ЕСЕНЦИЈАЛН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ДИНИЈЕ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ПИРОЗ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07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Цервикал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понди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дегенератив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мен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ратним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шљен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ирадијациј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атолошког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оцес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система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ранијал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Артериосклеротич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вним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преко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богат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аскуларизације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је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току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ангинозних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330033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канцерофоб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r7_cervicalspondylosis"/>
          <p:cNvPicPr/>
          <p:nvPr/>
        </p:nvPicPr>
        <p:blipFill>
          <a:blip r:embed="rId1"/>
          <a:srcRect l="0" t="0" r="0" b="5764"/>
          <a:stretch/>
        </p:blipFill>
        <p:spPr>
          <a:xfrm>
            <a:off x="3270240" y="2895480"/>
            <a:ext cx="18288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2" name="Picture 5" descr="spoondiloza"/>
          <p:cNvPicPr/>
          <p:nvPr/>
        </p:nvPicPr>
        <p:blipFill>
          <a:blip r:embed="rId2"/>
          <a:stretch/>
        </p:blipFill>
        <p:spPr>
          <a:xfrm>
            <a:off x="5334120" y="2895480"/>
            <a:ext cx="3657600" cy="1492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3" name="Picture 6" descr="aorta"/>
          <p:cNvPicPr/>
          <p:nvPr/>
        </p:nvPicPr>
        <p:blipFill>
          <a:blip r:embed="rId3"/>
          <a:stretch/>
        </p:blipFill>
        <p:spPr>
          <a:xfrm>
            <a:off x="5943600" y="4622760"/>
            <a:ext cx="2590920" cy="2013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9:23:47Z</dcterms:created>
  <dc:creator>Pejca</dc:creator>
  <dc:description/>
  <dc:language>en-US</dc:language>
  <cp:lastModifiedBy>John</cp:lastModifiedBy>
  <dcterms:modified xsi:type="dcterms:W3CDTF">2017-08-30T12:53:48Z</dcterms:modified>
  <cp:revision>132</cp:revision>
  <dc:subject/>
  <dc:title>ORALNE DINIJE I PIROZE</dc:title>
</cp:coreProperties>
</file>